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8.jpeg" ContentType="image/jpeg"/>
  <Override PartName="/ppt/media/image1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4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1.png" ContentType="image/png"/>
  <Override PartName="/ppt/media/image34.jpeg" ContentType="image/jpeg"/>
  <Override PartName="/ppt/media/image2.jpeg" ContentType="image/jpeg"/>
  <Override PartName="/ppt/media/image5.gif" ContentType="image/gif"/>
  <Override PartName="/ppt/media/image1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8FC-2EA1-4721-9728-841BF0A9CE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Какая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у нас пам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220-4A81-4497-A32C-75AE9570395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литературу по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за помощью к другим людям (родителям, учителям, школьному психоло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глобальной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3D8-47AD-4CC5-A94F-A563204BFE23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D17-527A-4D2C-BEF9-3B50E995728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5417-976A-4C1D-8EAE-51853EF2C7D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МОТОР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5FE0-7CD6-437A-A0EF-5E468020F2A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CC76-48DE-4BAC-A6BF-E600F47CF5E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ОСЯЗА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3F48-2D4D-4E3E-9298-2887977B8F5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5A55-1CF9-4CC3-A60D-ECF2C224201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             ОБОНЯ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7C28-5B91-4218-B561-5F22D3277EE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8761-B33A-47F6-A511-03C0AE4031A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 ( ТЕСТ №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DCF3-0C92-4E51-8B97-7C785067C76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ры 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иванцева Ан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олит Иль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тник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енко Антонина Его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DC9-345D-485D-AEA6-5FDA6336969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  СЛУХОВ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98C-3C02-4EAF-90FE-B07E33F3CEA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ОБРАЗ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0609-F947-4203-95DB-8905E851E18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Как работает памя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сновные процесс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3833-9496-463C-A9AF-87A7B9B2922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правления дальнейших исследов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есть ли различия в запоминании у мальчиков и дево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ть, влияет ли физическое здоровье на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и обобщить результаты проведенных и будущ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рекомендации для участников экспери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6A9-7EC4-4D01-B27A-DB50C560CA1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Работа была предста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ченической научно-практической конференции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 не оскудеет талантами земля русская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оссийском  конкурсе исследовательских работ и творческих проектов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исследова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где получила Диплом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 лучший 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3316-F5A9-4A1E-B8D7-A14857300053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, что такое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ая память у учащих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ь, можно ли улучши</a:t>
            </a: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448E-19E1-4700-9266-F48DD859B89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что такое память и какие бывают вид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помогает человеку лучше запомин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сследование памяти  однокласс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506-C219-4709-9FE8-733FE3E9942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Гипоте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если плохая память человека влияет на его физическое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, что разные люди обладают разными видами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31F2-EA70-45D3-8849-48C5F455B95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Этапы исследования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94C7-3CE3-445A-AA4D-FD6D9D2F0A3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абота над эмблемой и деви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7863-96A7-4A3D-AA95-4796BECBD26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37609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 по выбранн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олучен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диа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AB63-7CC5-400F-9F95-394AA09F782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DEC-AEBB-4E30-8562-1F69A37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F91-2183-4DD4-8A66-42EF523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0CA-2721-43D4-B1C6-46AE07EC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04D-793D-44C7-A158-1FA96F5B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47D2-91AF-4C87-A43B-2FECB60B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9D22-2CC5-4747-A33F-BF82DC6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D54-F79A-4916-AA67-523D58CE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DC9-A84E-45E3-BEA6-00879DBF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2024-C6B0-426E-9E61-D8C72A8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306C-8332-4437-8798-F57B66C8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0F2-7E60-4287-B6CE-39D8211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505-C459-4716-B296-C0E70B2B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ABAC-B729-4A47-BD98-578A643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C3A0-5B0F-430B-AFDE-C3457767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B289-E519-41BD-AF08-1511FA1B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5E7B-FA5E-4B64-8D24-DBB34A9A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82D6-67A4-4D08-8D7D-C41C33B3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E7D4-CBC8-481F-A455-DD693A6F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DC97-E7E0-4E95-97B3-A010424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52C4-25F4-4C7B-B914-795827B2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B485-EBE7-4975-B59C-9894A44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4498-C49C-4290-8817-C9079D09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49F-F116-462F-91C8-DBD8A5C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ABFE-31B0-42BF-A608-D46D7C2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CB03-AE45-4132-9B0B-B76C3AF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B88A-38C5-429C-8359-5E9764A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8A7A-A7A5-4C5A-97B6-14B8E1D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30AF-28B6-49A7-A9AF-571D97CA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393A-E22A-423A-9A16-90C08561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69B8-D9F5-4039-B79C-53AA9908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BBDE-4853-4A6F-9C77-92B11AFF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6E99-716F-485E-9CD1-28C00504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95A2-78D8-40D5-912E-C0742A9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37A-307F-4B5E-8447-53793080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67A2-AEC8-4C5F-82D7-5941754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D513-14CB-4B3A-B178-DFD6D70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8940-E280-4EB9-82FB-AE01544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31F9-9B23-4B96-8A3A-C63982C3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B805-5FDA-4C65-9816-8E65200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69EE-2A39-4A0B-A653-E937C60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F541-0C0A-40A6-909B-417025F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74C2-2A93-42DD-A38C-BDDF727B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39B3-FB3A-4835-A935-A8C7A52E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FA54-84D1-4B98-B8AD-A52BF985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09E-0989-4B57-9DD4-DAFF6B9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DEF1-DBD2-42C2-A7B2-B5A89A0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C329-C5E5-4BDA-AF06-2509073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C915-8156-46FA-AA57-C4EC7117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341EC-7131-4ACB-A8D4-CC5ABA7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F446-8E5B-48EB-9C29-6CB9AB3F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31C1-FC4C-496D-8607-44AB8C8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A1B6-912F-49DF-91F7-049A7E8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FF8A-829D-44EA-8F77-C0EA12C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E12F-19FF-4E56-B6AC-34B4B1E9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74EF-55F8-4D86-B1CF-71659A4E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A3E-495E-4A60-BA19-4DEB61CA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3AD4-E728-47A1-A9AD-0A018C7D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B47E-E984-4D2D-8229-837AD040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4722-EF6C-49D5-A1D6-777395A9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E715-FE46-41DF-BC9D-3A6E9F3D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90B0-9D2F-4260-8CF0-99B135E7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0B9F5-4CA9-44C0-A74C-A6D2FF6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02A3-D513-451C-AA3C-35C4CD6C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3BAE-326F-4C04-A387-2FD1D18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B766-C6F4-4E59-AAA6-73DCE07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B387-0D0F-4815-AFEB-4D988FF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916-8027-4A00-9841-D647E3A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30CD-1FCC-4D4F-AC08-9CFF7704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E21E-593D-469A-B660-5EE37473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FDDA-ABCB-4C45-90AE-1964CCF9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EFFF-F883-40E4-9E90-0980461F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32D1-7C2D-4FED-86BC-36FD751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D18B-BD4E-4E69-8DC8-ED7E195B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2A0F-99DB-45B0-A3C2-668B7492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EA83F-7D74-4CBD-94E4-3643024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CA51-53DC-4349-91E8-203E234D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5B75-9F98-410E-9F83-1F296B2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E44-762F-4562-A8C3-D04278FF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7FA1-14DD-411B-9B8A-0213F54D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EE29-28B3-41E0-AA12-3986D27B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A0258-70BF-45FF-AEEC-275B1007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F4D4-4449-4B76-99A0-0C1A3E6F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0539-0449-46FA-B2C7-A0068D35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3383E-4212-442C-934A-D6AD8216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0ABB-C6BD-4103-9B48-06C437B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FCCB6-F7C3-4026-930B-FC41FD6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2CCB3-5E5A-44E2-8B46-99507775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AACE9-CEE2-4A24-8A8C-4FD9674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46B-C07F-4010-943D-90F0CEBC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015C6-9481-4BDD-8D31-A6314327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14FE-AB79-4719-880B-B8911C9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D5122-2C3E-45FA-9D17-49D3647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B77C3-9F41-4642-8560-74CFC82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A7AAE-6706-4AAA-A213-EF4ECA37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FD9D-8783-4A29-AB85-00853664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C519-B282-4F35-8F02-6BB8D6B0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71D3-4F89-44E4-A1C3-00FB47AF0C39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B902-9BA5-4C39-8780-E73CE8C61414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425-EA0E-4E24-B476-A7B52F2926D8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5A81-ECE0-4DCD-A777-36EE51573461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438-F553-4969-A8F7-09CD980A548F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D1C4-1869-4C47-887D-21F21F598C06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86C8-6D45-4A45-8153-D59FC84CBE4F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C5C-1414-460C-8C00-80D79C0F8288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7A48-3261-443A-A773-77CEF986760B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B1A5-0E72-494F-940B-BC4C034411D3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3AB-F452-441A-B623-71C0159BB0F9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D77-EBFF-4F35-B263-CCAA0416518E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495-A4F3-4E08-B2AD-99A80882B6B9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823A-72D7-4909-B355-061A1DD762C4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3750-B407-4695-A866-32FA955F8716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D41C-1F50-40B2-AE7C-1F56862A5ECB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5920" y="385740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Какая</a:t>
            </a:r>
            <a:r>
              <a:rPr b="1" lang="ru-RU" sz="6600" spc="-1" strike="noStrike">
                <a:solidFill>
                  <a:srgbClr val="4b734b"/>
                </a:solidFill>
                <a:latin typeface="Monotype Corsiva"/>
              </a:rPr>
              <a:t> у нас память 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61" name="Picture 2" descr="C:\Users\ПК\AppData\Local\Microsoft\Windows\Temporary Internet Files\Content.IE5\2B5Q6MJB\MC900318226[1].wmf"/>
          <p:cNvPicPr/>
          <p:nvPr/>
        </p:nvPicPr>
        <p:blipFill>
          <a:blip r:embed="rId1"/>
          <a:stretch/>
        </p:blipFill>
        <p:spPr>
          <a:xfrm>
            <a:off x="214200" y="0"/>
            <a:ext cx="2428920" cy="34988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Каб.202\Фотографии\Исслед.д-ть.2005-2006\IMG_0753.jpg"/>
          <p:cNvPicPr/>
          <p:nvPr/>
        </p:nvPicPr>
        <p:blipFill>
          <a:blip r:embed="rId1"/>
          <a:stretch/>
        </p:blipFill>
        <p:spPr>
          <a:xfrm>
            <a:off x="400068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Метод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 литературу по теме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за помощью к другим людям (родителям, учителям, школьному психологу)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к глобальной сети интерне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эксперимен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6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img158"/>
          <p:cNvPicPr/>
          <p:nvPr/>
        </p:nvPicPr>
        <p:blipFill>
          <a:blip r:embed="rId2"/>
          <a:stretch/>
        </p:blipFill>
        <p:spPr>
          <a:xfrm>
            <a:off x="1000080" y="1179360"/>
            <a:ext cx="7072200" cy="50673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img159"/>
          <p:cNvPicPr/>
          <p:nvPr/>
        </p:nvPicPr>
        <p:blipFill>
          <a:blip r:embed="rId2"/>
          <a:stretch/>
        </p:blipFill>
        <p:spPr>
          <a:xfrm>
            <a:off x="857160" y="1357200"/>
            <a:ext cx="72867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img160"/>
          <p:cNvPicPr/>
          <p:nvPr/>
        </p:nvPicPr>
        <p:blipFill>
          <a:blip r:embed="rId2"/>
          <a:stretch/>
        </p:blipFill>
        <p:spPr>
          <a:xfrm>
            <a:off x="1214280" y="1214280"/>
            <a:ext cx="7000920" cy="533592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61"/>
          <p:cNvPicPr/>
          <p:nvPr/>
        </p:nvPicPr>
        <p:blipFill>
          <a:blip r:embed="rId2"/>
          <a:stretch/>
        </p:blipFill>
        <p:spPr>
          <a:xfrm>
            <a:off x="1357200" y="1276200"/>
            <a:ext cx="7000920" cy="558180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mg162"/>
          <p:cNvPicPr/>
          <p:nvPr/>
        </p:nvPicPr>
        <p:blipFill>
          <a:blip r:embed="rId2"/>
          <a:stretch/>
        </p:blipFill>
        <p:spPr>
          <a:xfrm>
            <a:off x="928800" y="1285920"/>
            <a:ext cx="7538760" cy="501480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img163"/>
          <p:cNvPicPr/>
          <p:nvPr/>
        </p:nvPicPr>
        <p:blipFill>
          <a:blip r:embed="rId2"/>
          <a:stretch/>
        </p:blipFill>
        <p:spPr>
          <a:xfrm>
            <a:off x="1214280" y="1122480"/>
            <a:ext cx="6572520" cy="52448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img164"/>
          <p:cNvPicPr/>
          <p:nvPr/>
        </p:nvPicPr>
        <p:blipFill>
          <a:blip r:embed="rId2"/>
          <a:stretch/>
        </p:blipFill>
        <p:spPr>
          <a:xfrm>
            <a:off x="642960" y="1285920"/>
            <a:ext cx="8074080" cy="47592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img165"/>
          <p:cNvPicPr/>
          <p:nvPr/>
        </p:nvPicPr>
        <p:blipFill>
          <a:blip r:embed="rId2"/>
          <a:stretch/>
        </p:blipFill>
        <p:spPr>
          <a:xfrm>
            <a:off x="1143000" y="1357200"/>
            <a:ext cx="7091280" cy="515808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1428840"/>
            <a:ext cx="7429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aebde"/>
                </a:solidFill>
                <a:latin typeface="Monotype Corsiva"/>
              </a:rPr>
              <a:t>Авторы :</a:t>
            </a:r>
            <a:br>
              <a:rPr sz="54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биванцева Анна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столит Илья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Сытник Екатерина</a:t>
            </a:r>
            <a:endParaRPr b="0" lang="en-US" sz="36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4267080"/>
            <a:ext cx="678204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Руководитель работы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Александренко Антонина Егоровна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pic>
        <p:nvPicPr>
          <p:cNvPr id="365" name="Picture 2" descr="E:\Каб.202\Фотографии\Фото класса (разные)2006-2010гг\IMG_0763.jpg"/>
          <p:cNvPicPr/>
          <p:nvPr/>
        </p:nvPicPr>
        <p:blipFill>
          <a:blip r:embed="rId1"/>
          <a:stretch/>
        </p:blipFill>
        <p:spPr>
          <a:xfrm>
            <a:off x="21420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mg172"/>
          <p:cNvPicPr/>
          <p:nvPr/>
        </p:nvPicPr>
        <p:blipFill>
          <a:blip r:embed="rId2"/>
          <a:stretch/>
        </p:blipFill>
        <p:spPr>
          <a:xfrm>
            <a:off x="857160" y="1044720"/>
            <a:ext cx="7215120" cy="5448240"/>
          </a:xfrm>
          <a:prstGeom prst="rect">
            <a:avLst/>
          </a:prstGeom>
          <a:ln w="0">
            <a:noFill/>
          </a:ln>
        </p:spPr>
      </p:pic>
      <p:sp>
        <p:nvSpPr>
          <p:cNvPr id="42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img173"/>
          <p:cNvPicPr/>
          <p:nvPr/>
        </p:nvPicPr>
        <p:blipFill>
          <a:blip r:embed="rId2"/>
          <a:stretch/>
        </p:blipFill>
        <p:spPr>
          <a:xfrm>
            <a:off x="357120" y="1500120"/>
            <a:ext cx="8440920" cy="4929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5643720" y="114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а № 10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 Math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— основные процессы памяти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33" name="Picture 1" descr="img099"/>
          <p:cNvPicPr/>
          <p:nvPr/>
        </p:nvPicPr>
        <p:blipFill>
          <a:blip r:embed="rId2"/>
          <a:stretch/>
        </p:blipFill>
        <p:spPr>
          <a:xfrm>
            <a:off x="500040" y="2928960"/>
            <a:ext cx="8501040" cy="376560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правления дальнейших исследований:</a:t>
            </a:r>
            <a:endParaRPr b="0" lang="en-US" sz="4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, есть ли различия в запоминании у мальчиков и девочек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сследовать, влияет ли физическое здоровье на память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Сравнить и обобщить результаты проведенных и будущих исследований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зработать рекомендации для участников эксперимента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E:\Каб.202\Фотографии\Исслед.д-ть.2005-2006\IMG_0743.jpg"/>
          <p:cNvPicPr/>
          <p:nvPr/>
        </p:nvPicPr>
        <p:blipFill>
          <a:blip r:embed="rId1"/>
          <a:stretch/>
        </p:blipFill>
        <p:spPr>
          <a:xfrm>
            <a:off x="500040" y="38750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была представлена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ученической научно-практической конференции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Да не оскудеет талантами земля русская»,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Российском  конкурсе исследовательских работ и творческих проектов 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«Я – исследователь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где получила Диплом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За лучший эксперимент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42" name="Picture 3" descr="E:\Каб.202\Фотографии\Исслед.д-ть.2005-2006\IMG_0779.jpg"/>
          <p:cNvPicPr/>
          <p:nvPr/>
        </p:nvPicPr>
        <p:blipFill>
          <a:blip r:embed="rId2"/>
          <a:stretch/>
        </p:blipFill>
        <p:spPr>
          <a:xfrm>
            <a:off x="4929120" y="3857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ПК\AppData\Local\Microsoft\Windows\Temporary Internet Files\Content.IE5\4JCQMEH2\MC90033268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ель работ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Узнать, что такое 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Выяснить, какая память у учащихся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</a:rPr>
              <a:t>нашего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 класса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Исследовать, можно ли улучши</a:t>
            </a:r>
            <a:r>
              <a:rPr b="0" lang="ru-RU" sz="4800" spc="-1" strike="noStrike">
                <a:solidFill>
                  <a:srgbClr val="f2f2f2"/>
                </a:solidFill>
                <a:latin typeface="Cambria Math"/>
              </a:rPr>
              <a:t>ть 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5857920" y="4071960"/>
            <a:ext cx="3066840" cy="2786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27e56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Изучить, что такое память и какие бывают виды памяти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Выяснить, что помогает человеку лучше запоминать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Провести исследование памяти  одноклассников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ПК\AppData\Local\Microsoft\Windows\Temporary Internet Files\Content.IE5\R4TH7C0G\MM900282996[1].gif"/>
          <p:cNvPicPr/>
          <p:nvPr/>
        </p:nvPicPr>
        <p:blipFill>
          <a:blip r:embed="rId1"/>
          <a:stretch/>
        </p:blipFill>
        <p:spPr>
          <a:xfrm>
            <a:off x="52149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Гипотез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Что если плохая память человека влияет на его физическое здоровье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озможно, что разные люди обладают разными видами памяти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Этап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219320"/>
            <a:ext cx="8400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81" name="Picture 2" descr="C:\Users\ПК\AppData\Local\Microsoft\Windows\Temporary Internet Files\Content.IE5\1DKUVHX6\MC900304067[1].wmf"/>
          <p:cNvPicPr/>
          <p:nvPr/>
        </p:nvPicPr>
        <p:blipFill>
          <a:blip r:embed="rId1"/>
          <a:stretch/>
        </p:blipFill>
        <p:spPr>
          <a:xfrm>
            <a:off x="5072040" y="3238560"/>
            <a:ext cx="3629160" cy="31446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над эмблемой и девизом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pic>
        <p:nvPicPr>
          <p:cNvPr id="384" name="Picture 2" descr="C:\Users\ПК\AppData\Local\Microsoft\Windows\Temporary Internet Files\Content.IE5\2B5Q6MJB\MC900334236[1].wmf"/>
          <p:cNvPicPr/>
          <p:nvPr/>
        </p:nvPicPr>
        <p:blipFill>
          <a:blip r:embed="rId1"/>
          <a:stretch/>
        </p:blipFill>
        <p:spPr>
          <a:xfrm>
            <a:off x="571680" y="1143000"/>
            <a:ext cx="8143560" cy="55180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img115"/>
          <p:cNvPicPr/>
          <p:nvPr/>
        </p:nvPicPr>
        <p:blipFill>
          <a:blip r:embed="rId1"/>
          <a:stretch/>
        </p:blipFill>
        <p:spPr>
          <a:xfrm>
            <a:off x="2428920" y="642960"/>
            <a:ext cx="4260960" cy="54165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"/>
          <p:cNvSpPr txBox="1"/>
          <p:nvPr/>
        </p:nvSpPr>
        <p:spPr>
          <a:xfrm>
            <a:off x="1428840" y="571680"/>
            <a:ext cx="64008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ь - хранилище прошл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428840" y="542916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залог будущ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ПК\AppData\Local\Microsoft\Windows\Temporary Internet Files\Content.IE5\4JCQMEH2\MM900234673[1].gif"/>
          <p:cNvPicPr/>
          <p:nvPr/>
        </p:nvPicPr>
        <p:blipFill>
          <a:blip r:embed="rId1"/>
          <a:stretch/>
        </p:blipFill>
        <p:spPr>
          <a:xfrm>
            <a:off x="6567480" y="0"/>
            <a:ext cx="2576520" cy="2576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642600"/>
            <a:ext cx="8400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Monotype Corsiva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иск информации по выбранной тем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Наблюдени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Обработка полученных данных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строение диаграмм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Заполнение портфолио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20:13Z</dcterms:created>
  <dc:creator>ПК</dc:creator>
  <dc:description/>
  <dc:language>en-US</dc:language>
  <cp:lastModifiedBy>LEGION</cp:lastModifiedBy>
  <dcterms:modified xsi:type="dcterms:W3CDTF">2014-11-24T10:59:49Z</dcterms:modified>
  <cp:revision>18</cp:revision>
  <dc:subject/>
  <dc:title>Какая у нас память</dc:title>
</cp:coreProperties>
</file>